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CF3C-1CD4-4DA6-A42F-5FAC9E5C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282-D8B6-47ED-B1B5-FD8B650E3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019A-2126-407E-A756-17808CE76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or must ensure that 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termination date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ior to the Assessment D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C460-E311-422A-8C30-666433C438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n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n-  on the actual CTTF print out in SIMS, It does not list Part I, Part II, Part III and Part IV.  Part V is labeled as Part V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337-B3E8-4A12-8732-0DC3C1C2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EBA-9286-46BF-88B6-26567CA7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0BE-129F-416C-BCCE-90E137DF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359-823D-45C2-BA0F-C52DDB92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5066-8F1A-47B4-9415-3104D3A7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80E-E32D-4262-8FF4-573F2CB9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D004-4107-4B70-A88B-CE2E22A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821D-2ECB-4E7E-938E-2420D88E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1A10-2B6B-460A-8840-4B2A937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3CB7-C16E-41C1-A852-DFBE6BAF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028-F223-47A5-B758-832C301F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2C4-D064-467A-AB87-301A97BF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0B2E-DB06-4017-88CD-8182CDC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C878-686F-4344-9B72-C24100D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7F30-D4FF-499F-AD8A-1B4EECAD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8AC6-55BD-4340-8499-9307F96E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A352-6BCA-4F61-AD08-5977A4C5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C14-DA86-4C77-A693-D3AE937C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CD7-600F-4C09-811E-603FAA75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B13-5B9B-45DF-8857-632C9A4A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DD2-0F2F-438A-AE87-6A0466BA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24D-7B94-4012-A638-41144C45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149-26C4-44C7-8623-F3CE831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15A-A2C9-4D70-A7DC-EECAE19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213E-6215-48A6-8ADC-8BF891AD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B239-71C7-47DE-9B9D-B3936A34F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BDB4-17CC-473E-81CE-17402A8AD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Executive Office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of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Elder Affair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44E6-3A75-4DDA-8184-A504D4600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DS-HC</a:t>
            </a:r>
            <a:br>
              <a:rPr sz="40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completed by Provider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AP enters data into CDS-2-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AP R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s MDS-HC data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s clinical elig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tes Nursing Mo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r 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ho completed the assessment is entered in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tion 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s the assessment coordinator for the MDS-H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IH MDS-H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ered into the CDS-2-RN data 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IH 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ho completed the assessment is entered in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tion 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s the assessment coordinator for the MDS-H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IH clinical eligibility determination is entered into the Nursing Mo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E9C1-A607-4789-B5D5-5C9C9816B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ection R - RN Signatu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Assessments &amp; Re-assess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ifies the assessment is complete and accu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N assessor ensures the completion of the entire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ssessment only partially updated by the RN is not acceptable for purposes of a clinical eligibility determin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D05F-7764-4C3F-9AB5-1CC195704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DS-2-RN &amp; CDS-2-NF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arrativ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completed for each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AP RN must copy and paste narrative into Jour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4A88-9A48-49A0-A684-B503090C3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ssessment Narrativ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 for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include information not included in MDS-H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/1/0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Term Review comple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ber continues to require PT and OT for  approximately 2 or more weeks.  Will re-assess in two wee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tion: STA – 10/1/09 to 10/28/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FF5-34DF-48FB-ADE4-FB7BFBBE3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Journal Ent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S-2-RN &amp; CDS-2-NF initial assessments or re-assess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and paste Narrative into Jou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other correspondence i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come / De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8D10-5EE0-416C-BBD5-3EF2C01E3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cumentation Requirem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ssessments must be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CDS-2 sections must be compl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ing Module must be completed for each clinical de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ative must be completed for each assessment and copied into the Jou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D78-39D6-46F9-A61C-012225FF1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E Services &amp; ECOP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(non-waiver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complete the following d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rollment Start Dat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Delive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9395-D56D-4379-9AB3-0B08088CE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r 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it Notes: 10/31/09 PACE approved by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name of ASAP R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Care Enrollment  - CAE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ce Order  -  mm/dd/yyy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ce Delivery  -  mm/yyy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val date cannot be earlier than assessment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d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sHealth 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rth 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s ID number / Client ID number - as reque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10A7-506B-43CE-BD6C-53694CF76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"/>
          <p:cNvSpPr/>
          <p:nvPr/>
        </p:nvSpPr>
        <p:spPr>
          <a:xfrm rot="20460000">
            <a:off x="4876920" y="1447560"/>
            <a:ext cx="1218960" cy="901440"/>
          </a:xfrm>
          <a:prstGeom prst="wedgeRoundRectCallout">
            <a:avLst>
              <a:gd name="adj1" fmla="val -98092"/>
              <a:gd name="adj2" fmla="val 8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lease not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181400"/>
                </a:solidFill>
                <a:latin typeface="Arial"/>
                <a:ea typeface="Times New Roman"/>
              </a:rPr>
              <a:t>PA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determination 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4191120" y="2209680"/>
            <a:ext cx="342720" cy="228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0492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F262-6CDB-4C37-ACE2-CB184C2C2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se Closure and Tracking For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rt A. – completed on all CSSM enroll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kip to Part E if enrollee receives a NFA (formerly L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B. - Discharge Tracking Day 3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C.  - Discharge Tracking Day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D. - Discharge Tracking Day 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E. –  completed following a Nursing Facility Approval (formerly LTA) after one or more Short Term Approvals due to insurmountable barr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2B0A-0F4B-45F6-99DF-548817ADC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urrent Clinical Assessments   (2006-2009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S 1.0 - Comprehensive Data Set 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SM - Comprehensive Screening &amp; Service Mo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assHealth Clinical Notifications</a:t>
            </a:r>
            <a:br>
              <a:rPr sz="28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Revised Notifications to be included in SIMS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F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rsing Fac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unity pread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ad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 Term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rosp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M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1B90-0BE6-46FC-BE7E-2360086A4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assHealth Notification 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upper right corner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’s Name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full first &amp; last na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’s MassHealth No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digit MH number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H applicant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Date of Birth: xx/xx/xxx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date notification completed and mail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FA4-17EE-4BB1-8860-F6C015B0D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opy of Notification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Please see handout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1A41-7829-4279-9F7C-3A272C802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H Notific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fficial Use Only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– community de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(s) – nursing facility de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 – con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s – range of clinical eligibility dates used for conversion when followed by a denial, short term approval, retrospective assess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Code deleted and no longer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F856-5927-478C-B493-0B34805FC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F Notification - Range of Dat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sion – applicant initially clinically eligible but recovers sufficiently and no longer meets clinical elig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Term Approval – indicate start date and end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rospective – indicate start date and end date if applicable - includes all retro cases, more or less than 90 day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rsing Facility business office should provide the ASAP with the date sp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299-E713-47B1-AD6E-948E650FD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DS </a:t>
            </a:r>
            <a:br>
              <a:rPr sz="28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Department of Developmental Services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s NF clinical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nursing facilit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specialized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C64-EFD3-453F-8CCE-EBF3AF001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MH </a:t>
            </a:r>
            <a:br>
              <a:rPr sz="40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Department of Mental Health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AP determines NF clinical elig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H/HES determines via Level II PAS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specialized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5AEB-9A97-43DC-94C2-A717921D1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mportant Numb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ssHealth C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ustomer service te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00.841.29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 Off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1.485.2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ingfie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13.785.4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unt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8.828.46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wksbu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78.863.9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1C37-B936-45BA-8FB3-167B5A05D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ve Assessments: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S-2-F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S-2-C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DS-2-RN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DS-2-NF 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C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All CDS-2 MDS-HC Sections (AA –R) must be compl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notifications must be signed and 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 Hearing Appeal Form and the Babel Sheet must accompany all not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8E11-1CDB-46D3-9371-23FE75CFF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Review Assessments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9412-1042-4EAA-858B-C25448A53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Previous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DS 1.0 Modu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DS-HC Mo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Mo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tion Mo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ing Mo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A395-1AB5-438F-9FBB-BE70D81DA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ew</a:t>
            </a: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DS-2 Modu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S-HC and Social Modu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combin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trition Mo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rsing Mo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98AB-A0B4-4EF8-B43C-79AD58DA1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DS-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S-2-Ful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 modu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S-2-C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2 modules – MDS/Social &amp; Nutri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S-2-R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lete MDS-HC &amp; nursing modu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IH, CDRH, provider submissions, PACE, ASAP community assessments including ADH, AFC, GAFC, NF pre-admission and Wa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DS-2-N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hortened/modified MDS-HC &amp; nursing modu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post admission NF referrals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ober 26,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A68-6816-40C7-A44F-F27BF9546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DS-2-C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S-HC &amp; Social Module 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mbin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trition Mo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ature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 by ASAP Case Ma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DS-2-R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7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DS-H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rsing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ature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DS-HC completed ASAP RN or provider 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rsing Module completed by ASAP 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to U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H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FC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COP Initial &amp; Re-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FC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AIH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Community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Non-AIH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sonal Care Determ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aiver Initial &amp; Re-Determ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2D7-A8EA-4EED-B658-67E0C55612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DS-2-NF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DS-HC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hortened /modified</a:t>
            </a:r>
            <a:r>
              <a:rPr b="0" i="1" lang="en-US" sz="2400" spc="-1" strike="noStrike">
                <a:solidFill>
                  <a:srgbClr val="1814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r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rsing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ature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t-NF-admis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ASAP 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n to 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Continuation of St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Conversion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Retrospective Ini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Short- Term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F Transfer ( NF to N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8FC-E1F3-4D16-9AF7-2FFF894DFB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6:25:03Z</dcterms:created>
  <dc:creator>jdaniels</dc:creator>
  <dc:description/>
  <dc:language>en-US</dc:language>
  <cp:lastModifiedBy>jdaniels</cp:lastModifiedBy>
  <dcterms:modified xsi:type="dcterms:W3CDTF">2009-10-23T15:49:43Z</dcterms:modified>
  <cp:revision>38</cp:revision>
  <dc:subject/>
  <dc:title>Executive Office  of Elder Affairs</dc:title>
</cp:coreProperties>
</file>